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28572-6499-4316-9A26-4D2229FA4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50C3B-763F-4BA8-B180-C0E1D4E00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41911-A864-4DD1-84BE-A2641C55C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327F6-AA14-4949-9929-A24CE6A6C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992B1-A880-49DC-A0D6-CBF514890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0AB81-07A7-4D90-9346-287DFE5E8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ACCF5-5316-498D-AAAE-DAD8190F4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B6B62-2565-4D5B-8DDE-6B072569C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EA3E6-5064-4C59-B026-744E96445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15A29-7840-4541-8F5A-A2824589B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096DC-EDF0-488C-B182-F86A51344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FACF8-5582-48E5-8511-A7B292946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B26B4-BA95-4848-8412-FC056F423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0DC27-F297-43C4-A5F5-1013A1538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A866C-B27E-41BA-83E3-AD539BF354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CDA36-3570-498C-9C1D-36E2FC1722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66F5D-8D86-4469-A532-209F9D133C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2A2AF-72E1-4082-BE29-062AE0B6B6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8635-B141-4353-BB31-F5CCCD8ED7A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454A-3695-4061-95AF-659A2F7F1CD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9EF0-D341-4977-84CA-D58D0074198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7C32-76F2-4D9A-A310-4274224AE44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FA35-C895-46B3-9F7E-42C4CDDEE30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2F9D-C85D-47CC-97FD-D9433CCD2AB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2C1F-03AF-4E00-B281-5C1F63E913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33421-DEC1-486D-B55C-FD52D25EBF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EA4D-28E7-45C3-8936-AB07CE2691A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D685-5860-4426-8A1D-95FA3A1C801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6C71-27CB-4F9E-943B-62146ADFCA2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F90E-3969-4B82-B132-3FA9C95A3A2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B6D7-C826-4CB6-A057-A79C6E4CDD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20C4E-9146-41C1-8FD5-EC04E7EE1A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3ED6F-3D39-483A-81F9-F4BDBF0E9F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22FB8-C7B5-48A6-80CB-BECFE9B214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30C26-D524-422F-A5D1-C97247C9B8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0B513-8570-4A31-BA3C-B5FA11DE68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16023-70AD-4097-B67C-FC96DF9CB7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38C6E-CCA8-4784-B078-854014829F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A39D8-0FA3-453E-93B6-0F0025911E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40000" indent="-205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51480" indent="-205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DC556-DFBE-42F3-9335-E6ABE5D0AA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2971800" y="1600200"/>
            <a:ext cx="61722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cess Control: Q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uality Control of Qualitative and Semi-Quantitative Procedure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5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D339-5259-4FB0-B90B-863C90ECF0C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sing 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 as per patient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positive and negative contr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a weak positive control for immunological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oose positive controls close to the cut-off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control to monitor extraction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0C70E-882C-4DCB-8B66-3C825DC6AA6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99F46-0DFD-419B-8C19-7D0AAB80F98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3200400" cy="275616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D2464-7D93-4E59-AB15-C61F189F803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ck Cultures for QC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ence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in-house developed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able reactions in stains and medi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media, reag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supplies work as int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886200" y="434340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E5795-8F70-419D-A7EB-820889460B3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ources for Obtaining Reference Strai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C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merican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TCC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ional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(UK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teur Institute Collection (Fran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D7A6F-106F-440F-BF1F-61AC7176F38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2C790-E41C-4954-B220-C617F8B1B89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BF5A5-66BD-4749-B039-4642284AED9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s are important—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e care of them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21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5659560" y="525780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o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95520" y="52578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Continued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B8E15-0BD7-4DE3-9186-05F6F492612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C8589-E016-442F-82DE-D9AD3956CFD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 Manag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established procedure for preparation or reconstit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el: content, concentration, date prepared and placed in service, expiration, initi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appropriate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408FB-01AF-4CE0-9B90-24F6C249474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56FA8-8045-46BA-ABA9-0316377C797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for St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s appropriate for particular stain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with known organisms or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rystal shards or for precip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ontaminants such as bacteria and fung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581280" y="4800600"/>
            <a:ext cx="2057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right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am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C8713-7606-4544-8E8D-769BC61EDC7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DFDE3-7969-463C-BAA4-5639A543785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ram Stain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6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"/>
          <p:cNvSpPr/>
          <p:nvPr/>
        </p:nvSpPr>
        <p:spPr>
          <a:xfrm>
            <a:off x="83808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9900"/>
                </a:solidFill>
                <a:latin typeface="Verdana"/>
              </a:rPr>
              <a:t>Good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5178240" y="502920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Verdana"/>
              </a:rPr>
              <a:t>Poor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19425-5AA3-4288-B850-A6068EDCE78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94086-A4EB-426A-8309-64075718E2E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of Microbiology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erformance of all med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-house prepared: all batch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ercially prepared: new lot on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581280" y="3505320"/>
            <a:ext cx="22100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cConkey Aga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C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non-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3F4D4-00BA-4E04-B06E-38829CF1359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F950-D26A-4C97-A41F-657399C3B46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dia Problems to Avoi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3809880" y="1447920"/>
            <a:ext cx="2514600" cy="914400"/>
            <a:chOff x="3809880" y="1447920"/>
            <a:chExt cx="2514600" cy="914400"/>
          </a:xfrm>
        </p:grpSpPr>
        <p:sp>
          <p:nvSpPr>
            <p:cNvPr id="249" name="AutoShape 8"/>
            <p:cNvSpPr/>
            <p:nvPr/>
          </p:nvSpPr>
          <p:spPr>
            <a:xfrm>
              <a:off x="3888360" y="190512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AutoShape 9"/>
            <p:cNvSpPr/>
            <p:nvPr/>
          </p:nvSpPr>
          <p:spPr>
            <a:xfrm>
              <a:off x="3809880" y="144792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5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5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5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5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6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6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6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70" name="Text Box 32"/>
          <p:cNvSpPr/>
          <p:nvPr/>
        </p:nvSpPr>
        <p:spPr>
          <a:xfrm>
            <a:off x="912960" y="1523880"/>
            <a:ext cx="275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-d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ied-ou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min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609480" y="3200400"/>
            <a:ext cx="8229600" cy="26535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Human bloo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hould not be used because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 much batch to batch vari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include inhibitory substanc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including antimicrobial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contain biohazar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(e.g., hepatitis virus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1950840" cy="15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E453D-E056-4813-BE30-DF3558AD910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7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D9BFF-8F34-4543-AD5F-18C0768686D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of Growth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eep records for media prepared in-h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ord outcomes in a dedicated media logbook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,  sterility,  ability to support growth using stock cultures,  biochemical response of stock cul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st each new batch or lot nu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1795B-0B66-45A6-8311-94043F0694D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9510C-55B8-4A31-8C98-1074A215D48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between built-in and traditional contro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use stock cultures for microbiology Q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use of quality control procedures for stains used in microscopic examin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methods for verifying performance of microbiological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D40E7-2F4C-4DF2-AEA8-1FA06E3418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5A837-36DE-4AF3-A881-779FB2B1D36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qualitative tests produce non-numerical resul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mi-quantitative tests give an estim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stablish a QC program for qualitative and semi-quantitative tes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A969D-C9B2-456F-9C11-50233096E3B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QC procedures followed by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lways record QC results and corrective 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f QC results are not acceptable, do not report patient result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AC926-ED4C-4377-8764-2040A3AEC18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64597-9137-4286-A02A-4A93C7B3BD8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85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99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300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301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302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03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04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05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6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307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8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9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310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311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2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13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4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316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8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321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23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325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6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328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9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30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334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5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337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8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340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1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07784-55AE-497E-BDE2-648941E6E62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y A performs a culture, a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identified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QC measures can you use to confirm that the isolate is correctly identified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09715-A259-4754-8587-0724425638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09680" y="1066680"/>
            <a:ext cx="5105520" cy="5257440"/>
            <a:chOff x="2209680" y="1066680"/>
            <a:chExt cx="5105520" cy="5257440"/>
          </a:xfrm>
        </p:grpSpPr>
        <p:sp>
          <p:nvSpPr>
            <p:cNvPr id="136" name="AutoShape 4"/>
            <p:cNvSpPr/>
            <p:nvPr/>
          </p:nvSpPr>
          <p:spPr>
            <a:xfrm>
              <a:off x="2209680" y="1066680"/>
              <a:ext cx="5105520" cy="5257440"/>
            </a:xfrm>
            <a:custGeom>
              <a:avLst/>
              <a:gdLst>
                <a:gd name="textAreaLeft" fmla="*/ 249120 w 5105520"/>
                <a:gd name="textAreaRight" fmla="*/ 4856400 w 5105520"/>
                <a:gd name="textAreaTop" fmla="*/ 249120 h 5257440"/>
                <a:gd name="textAreaBottom" fmla="*/ 5008320 h 5257440"/>
              </a:gdLst>
              <a:ahLst/>
              <a:rect l="textAreaLeft" t="textAreaTop" r="textAreaRight" b="textAreaBottom"/>
              <a:pathLst>
                <a:path w="21600" h="22243">
                  <a:moveTo>
                    <a:pt x="3600" y="0"/>
                  </a:moveTo>
                  <a:arcTo wR="3600" hR="3600" stAng="16200000" swAng="-5400000"/>
                  <a:lnTo>
                    <a:pt x="0" y="18643"/>
                  </a:lnTo>
                  <a:arcTo wR="3600" hR="3600" stAng="10800000" swAng="-5400000"/>
                  <a:lnTo>
                    <a:pt x="18000" y="22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21160" y="3834000"/>
              <a:ext cx="118800" cy="705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76200" y="3210480"/>
              <a:ext cx="165600" cy="1108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65040" y="3148920"/>
              <a:ext cx="168840" cy="385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24720" y="5932440"/>
              <a:ext cx="10800" cy="450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566600" y="4794120"/>
              <a:ext cx="1440" cy="101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338880" y="1713960"/>
              <a:ext cx="1440" cy="39837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762080" y="1868760"/>
              <a:ext cx="144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10400" y="1917000"/>
              <a:ext cx="108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09800" y="1760400"/>
              <a:ext cx="38682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09560" y="1156680"/>
              <a:ext cx="1243080" cy="1156320"/>
              <a:chOff x="2509560" y="1156680"/>
              <a:chExt cx="1243080" cy="115632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09560" y="1156680"/>
                <a:ext cx="1220760" cy="1156320"/>
                <a:chOff x="2509560" y="1156680"/>
                <a:chExt cx="1220760" cy="115632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0320" y="1156680"/>
                  <a:ext cx="1135440" cy="1156320"/>
                  <a:chOff x="2560320" y="1156680"/>
                  <a:chExt cx="1135440" cy="115632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09560" y="1423080"/>
                  <a:ext cx="122076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1880" y="156672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41440" y="1156680"/>
              <a:ext cx="1221480" cy="1156320"/>
              <a:chOff x="4141440" y="1156680"/>
              <a:chExt cx="1221480" cy="115632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181760" y="1156680"/>
                <a:ext cx="1136160" cy="115632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41440" y="156672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18240" y="1156680"/>
              <a:ext cx="1221480" cy="1156320"/>
              <a:chOff x="5718240" y="1156680"/>
              <a:chExt cx="1221480" cy="115632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762880" y="1156680"/>
                <a:ext cx="1136160" cy="1156320"/>
                <a:chOff x="5762880" y="1156680"/>
                <a:chExt cx="1136160" cy="115632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18240" y="15710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85040" y="307512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509560" y="2458440"/>
              <a:ext cx="1223280" cy="1155960"/>
              <a:chOff x="2509560" y="2458440"/>
              <a:chExt cx="1223280" cy="115596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3880" y="2458440"/>
                <a:ext cx="11386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09560" y="273708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189680" y="2519280"/>
              <a:ext cx="113580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28920" y="2535480"/>
              <a:ext cx="113400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663160" y="2475720"/>
              <a:ext cx="1316880" cy="1155960"/>
              <a:chOff x="5663160" y="2475720"/>
              <a:chExt cx="1316880" cy="115596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38040" y="247572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663160" y="276696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09800" y="431388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509560" y="3779280"/>
              <a:ext cx="1221480" cy="1157400"/>
              <a:chOff x="2509560" y="3779280"/>
              <a:chExt cx="1221480" cy="115740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0880" y="3779280"/>
                <a:ext cx="113652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09560" y="400428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141440" y="3779280"/>
              <a:ext cx="1221480" cy="1157400"/>
              <a:chOff x="4141440" y="3779280"/>
              <a:chExt cx="1221480" cy="115740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67720" y="3779280"/>
                <a:ext cx="113688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41440" y="4022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38400" y="3772800"/>
              <a:ext cx="113724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18240" y="385020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85040" y="562680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434680" y="5090400"/>
              <a:ext cx="1399680" cy="1155960"/>
              <a:chOff x="2434680" y="5090400"/>
              <a:chExt cx="1399680" cy="115596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1200" y="5090400"/>
                <a:ext cx="113544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4680" y="5319000"/>
                <a:ext cx="139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41440" y="5024160"/>
              <a:ext cx="1221480" cy="1156320"/>
              <a:chOff x="4141440" y="5024160"/>
              <a:chExt cx="1221480" cy="115632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189320" y="5024160"/>
                <a:ext cx="1135440" cy="115632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41440" y="53186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738400" y="5090400"/>
              <a:ext cx="1221480" cy="1155960"/>
              <a:chOff x="5738400" y="5090400"/>
              <a:chExt cx="1221480" cy="115596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757120" y="509040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38400" y="531900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D8341-E90A-4A5B-A9DB-9F97005A375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ative or semi-quantitative tests - Exampl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scopic examin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pstick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rologic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biological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y reaction that produces non-numeric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C0546-D7D0-4A01-969D-EEB579EA2D5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98" name="wbcrbc" descr="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90B3C-2BF3-46F2-BBD7-DC9A76D7C50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ortant Concep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mple manageme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ff competenc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mainten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ins, media and reagents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E3018-722D-4020-94F6-6EFB3BDD667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46FB9-F6A1-4ECC-B1F8-F508BE889B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Materia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ontrol materials that mimic patient samp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ference organis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AA6C7-5C6B-427C-8B71-2198F84D080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tegrated into the design of a test kit dev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utomatically run with each test perform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certain aspects of kit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y not assess enti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esting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9AC04-7696-4EAE-B166-9B4BBF066AC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terials with known reacti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imic patient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the integrity of the entir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F6D35-8F3A-49F7-80E6-DCB4D110F49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09:52:17Z</dcterms:modified>
  <cp:revision>464</cp:revision>
  <dc:subject/>
  <dc:title>Slide 1</dc:title>
</cp:coreProperties>
</file>